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E06E-9984-4AB1-B89F-E038F0A97F1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052A-8F23-4179-94D1-AF0D09CF08A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83EC7-F13D-43B8-A4B8-7BEBFF6D6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001A8-6D5A-49C7-AFCD-9C5895F07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7A8BE-7F61-4509-8D96-8A421EBB4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4EBB7-984D-4E33-84D4-6B070CED6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2BD97-9C65-438A-ABE9-D4E4C2091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AC5C4-F246-4FDF-A59B-BFAC496C6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9DCFC-4067-4F1F-BAAE-EB4747C5A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940F8-AD47-47E2-9A45-BFE0E4418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1799A-F043-4F18-9B34-9C839C683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91910-4CD8-4931-BC31-98C6C0AD2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3D171-BE8D-4C7E-AC5F-F1735A22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EEA6F-0CFF-4FD2-9C6C-D22ED619F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D8946-19C5-4C5E-8B1B-811A18846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CAA39-50B6-4238-BFE8-8A625CF70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894C9-4261-401E-A0E5-162DEDBE4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939AF-A6F8-4CBB-AE70-0BFF9609D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97B07-7F7F-45FC-9312-050BEEC5D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1D6432-39F7-44FB-9762-4CF4111ED0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D3285-1BB4-40DA-8FB0-DBFC2D341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BEF9D-D510-433E-9822-6587C4EF46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39BCE-44F8-4025-BDA8-8D5BFA0AB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08D08-D432-4F80-A8F4-0865AB5A3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298CA-73FC-4E26-9B0C-386D81A1B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FEE82-37D9-4F5F-80E3-FB07B676F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C7791-984F-4FBF-B040-76D0CCEB5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E738F-4E85-432B-9CCE-D34D1893B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189EA-FE98-4B8B-B992-830E787BB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CD141-636C-4347-B4EC-E5FD56A36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0FFCF-1FA9-4CFB-A5F9-38E7EB34C7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72D31F-8563-47AD-AADB-5397D3203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78B04-6A96-4017-8CD1-F8C6568F8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EB02-241E-4CA7-87CD-CD7FC8EEA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BA2BE-9FAF-4A0E-A909-069DB90C7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79D8-5B92-4D11-9F45-A8C68FD3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4DFA-0284-494F-9508-0897F3EC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7C91-E001-41CE-9516-862D4F13C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E7B7-A64D-47F6-8707-BBEF6BD906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AF87-BACC-47D9-A95A-19D1D89D9A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BDB5-CFDE-46FC-BC3E-C0F72E18AF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Vladimir Zivkovic</a:t>
            </a:r>
            <a:endParaRPr b="0" lang="en-US" sz="2400" spc="-1" strike="noStrike">
              <a:solidFill>
                <a:srgbClr val="000000"/>
              </a:solidFill>
              <a:latin typeface="Calibri"/>
            </a:endParaRPr>
          </a:p>
        </p:txBody>
      </p:sp>
      <p:sp>
        <p:nvSpPr>
          <p:cNvPr id="131" name="Text Box 7"/>
          <p:cNvSpPr/>
          <p:nvPr/>
        </p:nvSpPr>
        <p:spPr>
          <a:xfrm>
            <a:off x="2529360" y="1262160"/>
            <a:ext cx="402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PORTS MEDICINE</a:t>
            </a:r>
            <a:endParaRPr b="0" lang="en-US" sz="1800" spc="-1" strike="noStrike">
              <a:solidFill>
                <a:srgbClr val="000000"/>
              </a:solidFill>
              <a:latin typeface="Verdana"/>
            </a:endParaRPr>
          </a:p>
        </p:txBody>
      </p:sp>
      <p:sp>
        <p:nvSpPr>
          <p:cNvPr id="132" name="Rectangle 9"/>
          <p:cNvSpPr/>
          <p:nvPr/>
        </p:nvSpPr>
        <p:spPr>
          <a:xfrm>
            <a:off x="539640" y="2637000"/>
            <a:ext cx="77774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6</a:t>
            </a:r>
            <a:r>
              <a:rPr b="1" lang="en-US" sz="2200" spc="-1" strike="noStrike" baseline="30000">
                <a:solidFill>
                  <a:srgbClr val="000000"/>
                </a:solidFill>
                <a:latin typeface="Calibri"/>
                <a:ea typeface="Arial"/>
              </a:rPr>
              <a:t>th</a:t>
            </a:r>
            <a:r>
              <a:rPr b="1" lang="en-US" sz="2200" spc="-1" strike="noStrike">
                <a:solidFill>
                  <a:srgbClr val="000000"/>
                </a:solidFill>
                <a:latin typeface="Calibri"/>
                <a:ea typeface="Arial"/>
              </a:rPr>
              <a:t> teaching unit (sixth week):</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FUNCTIONAL DETERMINANTS OF PHYSICAL ABILITY</a:t>
            </a:r>
            <a:endParaRPr b="0" lang="en-US" sz="4400" spc="-1" strike="noStrike">
              <a:solidFill>
                <a:srgbClr val="000000"/>
              </a:solidFill>
              <a:latin typeface="Verdana"/>
            </a:endParaRPr>
          </a:p>
        </p:txBody>
      </p:sp>
      <p:pic>
        <p:nvPicPr>
          <p:cNvPr id="133"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ximum heart rate</a:t>
            </a:r>
            <a:endParaRPr b="0" lang="en-US" sz="3600" spc="-1" strike="noStrike">
              <a:solidFill>
                <a:srgbClr val="000000"/>
              </a:solidFill>
              <a:latin typeface="Calibri"/>
            </a:endParaRPr>
          </a:p>
        </p:txBody>
      </p:sp>
      <p:sp>
        <p:nvSpPr>
          <p:cNvPr id="15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heart rate (HRmax) represents the maximum number of heart beats per minute and is determined by genetics and 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age of twenty, HRmax in sedentary people starts to decrease by one beat per year, but if you train regularly, it often remains unchanged for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ximum value of the heart rate (HRmax) is calculated by the formula</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2400" spc="-1" strike="noStrike">
                <a:solidFill>
                  <a:srgbClr val="000000"/>
                </a:solidFill>
                <a:latin typeface="Calibri"/>
              </a:rPr>
              <a:t>HR</a:t>
            </a:r>
            <a:r>
              <a:rPr b="0" lang="sr-Latn-RS" sz="2400" spc="-1" strike="noStrike">
                <a:solidFill>
                  <a:srgbClr val="000000"/>
                </a:solidFill>
                <a:latin typeface="Calibri"/>
              </a:rPr>
              <a:t>max</a:t>
            </a:r>
            <a:r>
              <a:rPr b="0" lang="ru-RU" sz="2400" spc="-1" strike="noStrike">
                <a:solidFill>
                  <a:srgbClr val="000000"/>
                </a:solidFill>
                <a:latin typeface="Calibri"/>
              </a:rPr>
              <a:t> = 220 – </a:t>
            </a:r>
            <a:r>
              <a:rPr b="0" lang="en-US" sz="2400" spc="-1" strike="noStrike">
                <a:solidFill>
                  <a:srgbClr val="000000"/>
                </a:solidFill>
                <a:latin typeface="Calibri"/>
              </a:rPr>
              <a:t>number of years of 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eart rate</a:t>
            </a:r>
            <a:endParaRPr b="0" lang="en-US" sz="32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d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erature and clothing</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id and food intak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itud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ekly heart rate vari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environmen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aged muscle ma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logical stress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 of various disea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roke volume</a:t>
            </a:r>
            <a:endParaRPr b="0" lang="en-US" sz="36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ke volume (SV) represents the amount of blood that the heart expels during one contraction, i.e. the difference between blood volumes at the end of diastole and at the end of systo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of SV at rest in untrained persons is 75 ml (60-80 ml), and in athletes above 105 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physical activity, SV increases 3-4 times, so that at maximum activity it reaches 125 ml (100-150 ml) in untrained people, and over 200 ml in well-trained athle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diac output</a:t>
            </a:r>
            <a:endParaRPr b="0" lang="en-US" sz="36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rdiac output, representing the amount of blood that the heart pumps out during 1 minute during systole, is equal to the product of stroke volume and heart rate and plays a central role in oxygen supply and functional capacity for exerci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rest, it is 5.0-6.0 liters, and during physical activity it normally increases 2-4 times (up to 20 l), in order to meet the increased need for oxygen, and in trained persons, 6-7 times (30-40 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terial blood pressure </a:t>
            </a:r>
            <a:endParaRPr b="0" lang="en-US" sz="3200" spc="-1" strike="noStrike">
              <a:solidFill>
                <a:srgbClr val="000000"/>
              </a:solidFill>
              <a:latin typeface="Calibri"/>
            </a:endParaRPr>
          </a:p>
        </p:txBody>
      </p:sp>
      <p:sp>
        <p:nvSpPr>
          <p:cNvPr id="161" name=""/>
          <p:cNvSpPr txBox="1"/>
          <p:nvPr/>
        </p:nvSpPr>
        <p:spPr>
          <a:xfrm>
            <a:off x="304920" y="1600200"/>
            <a:ext cx="8610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erial blood pressure - the force exerted by blood on a unit area of the artery wall (mmHg or 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gnitude of blood pressure is determined by: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ize of the impact volum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resistance that occurs during blood flow through blood vess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ment of arterial pressure</a:t>
            </a:r>
            <a:endParaRPr b="0" lang="en-US" sz="32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rectl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hygmomanometer with cuf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alpation metho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uscultation method - Korotkov's tones (1905)</a:t>
            </a:r>
            <a:endParaRPr b="0" lang="en-US" sz="2800" spc="-1" strike="noStrike">
              <a:solidFill>
                <a:srgbClr val="000000"/>
              </a:solidFill>
              <a:latin typeface="Calibri"/>
            </a:endParaRPr>
          </a:p>
        </p:txBody>
      </p:sp>
      <p:pic>
        <p:nvPicPr>
          <p:cNvPr id="164" name="Picture 3" descr=""/>
          <p:cNvPicPr/>
          <p:nvPr/>
        </p:nvPicPr>
        <p:blipFill>
          <a:blip r:embed="rId1"/>
          <a:stretch/>
        </p:blipFill>
        <p:spPr>
          <a:xfrm>
            <a:off x="5486400" y="1581120"/>
            <a:ext cx="3371760" cy="16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79280" y="21337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u Times New Roman"/>
                <a:ea typeface="Times New Roman"/>
              </a:rPr>
              <a:t>   </a:t>
            </a:r>
            <a:endParaRPr b="0" lang="en-US" sz="2400" spc="-1" strike="noStrike">
              <a:solidFill>
                <a:srgbClr val="000000"/>
              </a:solidFill>
              <a:latin typeface="Verdana"/>
            </a:endParaRPr>
          </a:p>
        </p:txBody>
      </p:sp>
      <p:sp>
        <p:nvSpPr>
          <p:cNvPr id="166" name="Rectangle 4"/>
          <p:cNvSpPr/>
          <p:nvPr/>
        </p:nvSpPr>
        <p:spPr>
          <a:xfrm>
            <a:off x="4067280" y="22050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7" name="TextBox 3"/>
          <p:cNvSpPr/>
          <p:nvPr/>
        </p:nvSpPr>
        <p:spPr>
          <a:xfrm>
            <a:off x="61920" y="228600"/>
            <a:ext cx="9117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assification of arterial hypertension stages based on systolic and diastolic blood pressure values</a:t>
            </a:r>
            <a:endParaRPr b="0" lang="en-US" sz="2400" spc="-1" strike="noStrike">
              <a:solidFill>
                <a:srgbClr val="000000"/>
              </a:solidFill>
              <a:latin typeface="Verdana"/>
            </a:endParaRPr>
          </a:p>
        </p:txBody>
      </p:sp>
      <p:pic>
        <p:nvPicPr>
          <p:cNvPr id="168" name="Picture 7" descr="Classification of blood pressure according to the European Society ..."/>
          <p:cNvPicPr/>
          <p:nvPr/>
        </p:nvPicPr>
        <p:blipFill>
          <a:blip r:embed="rId1"/>
          <a:stretch/>
        </p:blipFill>
        <p:spPr>
          <a:xfrm>
            <a:off x="609480" y="1981080"/>
            <a:ext cx="779616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ected values of blood pressure during physical exertion</a:t>
            </a:r>
            <a:endParaRPr b="0" lang="en-US" sz="3200" spc="-1" strike="noStrike">
              <a:solidFill>
                <a:srgbClr val="000000"/>
              </a:solidFill>
              <a:latin typeface="Calibri"/>
            </a:endParaRPr>
          </a:p>
        </p:txBody>
      </p:sp>
      <p:pic>
        <p:nvPicPr>
          <p:cNvPr id="170" name="Picture 44" descr="Exercise Hypertension – A Review – SEMS-journal"/>
          <p:cNvPicPr/>
          <p:nvPr/>
        </p:nvPicPr>
        <p:blipFill>
          <a:blip r:embed="rId1"/>
          <a:stretch/>
        </p:blipFill>
        <p:spPr>
          <a:xfrm>
            <a:off x="914400" y="2057400"/>
            <a:ext cx="733428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805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ea typeface="Arial"/>
              </a:rPr>
              <a:t>2. Functional capacity of the respiratory system</a:t>
            </a:r>
            <a:endParaRPr b="0" lang="en-US" sz="3600" spc="-1" strike="noStrike">
              <a:solidFill>
                <a:srgbClr val="000000"/>
              </a:solidFill>
              <a:latin typeface="Calibri"/>
            </a:endParaRPr>
          </a:p>
        </p:txBody>
      </p:sp>
      <p:sp>
        <p:nvSpPr>
          <p:cNvPr id="172" name=""/>
          <p:cNvSpPr txBox="1"/>
          <p:nvPr/>
        </p:nvSpPr>
        <p:spPr>
          <a:xfrm>
            <a:off x="228600" y="1196640"/>
            <a:ext cx="8686800" cy="528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ulmonary function is tested by various methods of assessing lung ventilation (gas exchange between the external environment and the alveoli), distribution (distribution of gases in the lungs) and perfusion (pulmonary blood fl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ulmonary function tests are widely used to assess functional capacity during exerci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805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monary function tests</a:t>
            </a:r>
            <a:endParaRPr b="0" lang="en-US" sz="36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o/fo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work capac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demiological and scientific resear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gnose the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severity of the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rapeutic respon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disease progre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suitability for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certain invasive diagnostic and therapeutic procedur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arly disease det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74320"/>
            <a:ext cx="83818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Arial"/>
              </a:rPr>
              <a:t>1. Functional ability of the cardiovascular system</a:t>
            </a:r>
            <a:endParaRPr b="0" lang="en-US" sz="3200" spc="-1" strike="noStrike">
              <a:solidFill>
                <a:srgbClr val="000000"/>
              </a:solidFill>
              <a:latin typeface="Calibri"/>
            </a:endParaRPr>
          </a:p>
        </p:txBody>
      </p:sp>
      <p:sp>
        <p:nvSpPr>
          <p:cNvPr id="135" name=""/>
          <p:cNvSpPr txBox="1"/>
          <p:nvPr/>
        </p:nvSpPr>
        <p:spPr>
          <a:xfrm>
            <a:off x="0" y="144792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functional capacities of organic systems and their ability to adapt to physical activity represent an important link in the complex phenomenon of physical 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the process of transporting oxygen, which is necessary for physical activity, the most important role is the cardiovascular system, primarily the hea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hysical fitness is significantly influenced by the levels of functional ability of the musculoskeletal, respiratory, endocrine, nervous and other organ 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ost important parameters that define the functional capacity of the cardiovascular system are: </a:t>
            </a:r>
            <a:r>
              <a:rPr b="0" lang="en-US" sz="2400" spc="-1" strike="noStrike" u="sng">
                <a:solidFill>
                  <a:srgbClr val="000000"/>
                </a:solidFill>
                <a:uFillTx/>
                <a:latin typeface="Calibri"/>
                <a:ea typeface="Arial"/>
              </a:rPr>
              <a:t>stroke volume, heart rate, cardiac output and arterial blood pressur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monary function tests</a:t>
            </a:r>
            <a:endParaRPr b="0" lang="en-US" sz="36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includ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screening spirome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ment of lung volum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usion capacity for carbon monoxide and respiratory gases in arterial blood.</a:t>
            </a:r>
            <a:endParaRPr b="0" lang="en-US" sz="2400" spc="-1" strike="noStrike">
              <a:solidFill>
                <a:srgbClr val="000000"/>
              </a:solidFill>
              <a:latin typeface="Calibri"/>
            </a:endParaRPr>
          </a:p>
        </p:txBody>
      </p:sp>
      <p:pic>
        <p:nvPicPr>
          <p:cNvPr id="177" name="Picture 3" descr=""/>
          <p:cNvPicPr/>
          <p:nvPr/>
        </p:nvPicPr>
        <p:blipFill>
          <a:blip r:embed="rId1"/>
          <a:stretch/>
        </p:blipFill>
        <p:spPr>
          <a:xfrm>
            <a:off x="4724280" y="3497400"/>
            <a:ext cx="3362400" cy="298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ometry</a:t>
            </a:r>
            <a:endParaRPr b="0" lang="en-US" sz="3600" spc="-1" strike="noStrike">
              <a:solidFill>
                <a:srgbClr val="000000"/>
              </a:solidFill>
              <a:latin typeface="Calibri"/>
            </a:endParaRPr>
          </a:p>
        </p:txBody>
      </p:sp>
      <p:sp>
        <p:nvSpPr>
          <p:cNvPr id="179" name=""/>
          <p:cNvSpPr txBox="1"/>
          <p:nvPr/>
        </p:nvSpPr>
        <p:spPr>
          <a:xfrm>
            <a:off x="457200" y="2209320"/>
            <a:ext cx="82296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ometry is the method that is performed most often, it usually begins the examination - the volume of air in the lungs is registered and lung volumes and lung capacities are determined: static volumes and capacities, the measurement of which is independent of time, and dynamic, which determine the volumes of air achieved in the unit tim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ometry</a:t>
            </a:r>
            <a:endParaRPr b="0" lang="en-US" sz="3600" spc="-1" strike="noStrike">
              <a:solidFill>
                <a:srgbClr val="000000"/>
              </a:solidFill>
              <a:latin typeface="Calibri"/>
            </a:endParaRPr>
          </a:p>
        </p:txBody>
      </p:sp>
      <p:sp>
        <p:nvSpPr>
          <p:cNvPr id="181" name=""/>
          <p:cNvSpPr txBox="1"/>
          <p:nvPr/>
        </p:nvSpPr>
        <p:spPr>
          <a:xfrm>
            <a:off x="456840" y="990720"/>
            <a:ext cx="8458200" cy="54864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lung volumes </a:t>
            </a:r>
            <a:r>
              <a:rPr b="0" lang="ru-RU"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 </a:t>
            </a:r>
            <a:r>
              <a:rPr b="0" lang="sr-RS" sz="2400" spc="-1" strike="noStrike">
                <a:solidFill>
                  <a:srgbClr val="000000"/>
                </a:solidFill>
                <a:latin typeface="Calibri"/>
              </a:rPr>
              <a:t>- </a:t>
            </a:r>
            <a:r>
              <a:rPr b="0" lang="en-US" sz="2400" spc="-1" strike="noStrike">
                <a:solidFill>
                  <a:srgbClr val="000000"/>
                </a:solidFill>
                <a:latin typeface="Calibri"/>
              </a:rPr>
              <a:t>Tidal volume (VT)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spiratory reserve volume (IRV)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serve volume (ERV)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sidual volume (RV)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lung capacities </a:t>
            </a:r>
            <a:r>
              <a:rPr b="0" lang="ru-RU"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en-US" sz="2400" spc="-1" strike="noStrike">
                <a:solidFill>
                  <a:srgbClr val="000000"/>
                </a:solidFill>
                <a:latin typeface="Calibri"/>
              </a:rPr>
              <a:t>Inspiratory capacity (IC)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ctional Residual Capacity (FRC)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ital capacity (VC)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Total lung capacity (TL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57200" y="2133720"/>
            <a:ext cx="8493120" cy="395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idal volume (VT) – the volume of gas that is inhaled or exhaled during normal respiration – is about 5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inspiratory reserve volume (IRV) – the volume of gas that can be inhaled after a normal inspiration – is about 30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Expiratory reserve volume (ERV) – the volume of gas that can be exhaled after a normal expiration – is about 11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esidual volume (RV) - the volume of gas that remains in the lungs after maximum expiration - is about 1200 ml.</a:t>
            </a:r>
            <a:endParaRPr b="0" lang="en-US" sz="2400" spc="-1" strike="noStrike">
              <a:solidFill>
                <a:srgbClr val="000000"/>
              </a:solidFill>
              <a:latin typeface="Verdana"/>
            </a:endParaRPr>
          </a:p>
        </p:txBody>
      </p:sp>
      <p:sp>
        <p:nvSpPr>
          <p:cNvPr id="183" name="Rectangle 5"/>
          <p:cNvSpPr/>
          <p:nvPr/>
        </p:nvSpPr>
        <p:spPr>
          <a:xfrm>
            <a:off x="4500720" y="6165720"/>
            <a:ext cx="439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a:t>
            </a:r>
            <a:endParaRPr b="0" lang="en-US" sz="1400" spc="-1" strike="noStrike">
              <a:solidFill>
                <a:srgbClr val="000000"/>
              </a:solidFill>
              <a:latin typeface="Verdana"/>
            </a:endParaRPr>
          </a:p>
        </p:txBody>
      </p:sp>
      <p:sp>
        <p:nvSpPr>
          <p:cNvPr id="184" name="TextBox 1"/>
          <p:cNvSpPr/>
          <p:nvPr/>
        </p:nvSpPr>
        <p:spPr>
          <a:xfrm>
            <a:off x="1676520" y="99072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atic lung volum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04920" y="1066680"/>
            <a:ext cx="8839080" cy="5675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Inspiratory capacity (IC) – the maximum volume of gas that can be inhaled after a normal expiration (it is about 35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I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a:t>
            </a:r>
            <a:endParaRPr b="0" lang="en-US" sz="20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Functional residual capacity (FRC) – the volume of gas that remains in the lungs after a normal expiration (it is about 23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FRC = ERV + RV</a:t>
            </a:r>
            <a:r>
              <a:rPr b="1" lang="en-US" sz="2000" spc="-1" strike="noStrike">
                <a:solidFill>
                  <a:srgbClr val="000000"/>
                </a:solidFill>
                <a:latin typeface="Calibri"/>
                <a:ea typeface="Arial"/>
              </a:rPr>
              <a:t> *</a:t>
            </a:r>
            <a:endParaRPr b="0" lang="en-US" sz="20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400" spc="-1" strike="noStrike">
                <a:solidFill>
                  <a:srgbClr val="000000"/>
                </a:solidFill>
                <a:latin typeface="Calibri"/>
                <a:ea typeface="Arial"/>
              </a:rPr>
              <a:t>Vital capacity (VC) – the maximum volume of gas that can be exhaled after maximum inspiration (it is about 46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V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 + ERV</a:t>
            </a:r>
            <a:endParaRPr b="0" lang="en-US" sz="2000" spc="-1" strike="noStrike">
              <a:solidFill>
                <a:srgbClr val="000000"/>
              </a:solidFill>
              <a:latin typeface="Verdana"/>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Vital capacity (VC) – the maximum volume of gas that can be exhaled after maximum inspiration (it is about 4600 ml) and is calculated by the formula</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       </a:t>
            </a:r>
            <a:r>
              <a:rPr b="1" lang="sr-Latn-CS" sz="2000" spc="-1" strike="noStrike">
                <a:solidFill>
                  <a:srgbClr val="000000"/>
                </a:solidFill>
                <a:latin typeface="Calibri"/>
                <a:ea typeface="Arial"/>
              </a:rPr>
              <a:t>TL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 + ERV + RV  </a:t>
            </a:r>
            <a:r>
              <a:rPr b="0" lang="en-US" sz="2000" spc="-1" strike="noStrike">
                <a:solidFill>
                  <a:srgbClr val="000000"/>
                </a:solidFill>
                <a:latin typeface="Calibri"/>
                <a:ea typeface="Arial"/>
              </a:rPr>
              <a:t>or </a:t>
            </a:r>
            <a:r>
              <a:rPr b="1" lang="sr-Latn-CS" sz="2000" spc="-1" strike="noStrike">
                <a:solidFill>
                  <a:srgbClr val="000000"/>
                </a:solidFill>
                <a:latin typeface="Calibri"/>
                <a:ea typeface="Arial"/>
              </a:rPr>
              <a:t>TLC = VC + RV</a:t>
            </a:r>
            <a:endParaRPr b="0" lang="en-US" sz="2000" spc="-1" strike="noStrike">
              <a:solidFill>
                <a:srgbClr val="000000"/>
              </a:solidFill>
              <a:latin typeface="Verdana"/>
            </a:endParaRPr>
          </a:p>
        </p:txBody>
      </p:sp>
      <p:sp>
        <p:nvSpPr>
          <p:cNvPr id="186" name="TextBox 1"/>
          <p:cNvSpPr/>
          <p:nvPr/>
        </p:nvSpPr>
        <p:spPr>
          <a:xfrm>
            <a:off x="1676520" y="30492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atic lung capaciti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0663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ynamic lung volumes and            ventilation capacity </a:t>
            </a:r>
            <a:br>
              <a:rPr sz="3600"/>
            </a:br>
            <a:endParaRPr b="0" lang="en-US" sz="3600" spc="-1" strike="noStrike">
              <a:solidFill>
                <a:srgbClr val="000000"/>
              </a:solidFill>
              <a:latin typeface="Calibri"/>
            </a:endParaRPr>
          </a:p>
        </p:txBody>
      </p:sp>
      <p:sp>
        <p:nvSpPr>
          <p:cNvPr id="188"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VC - the volume of air that is blown out of the lungs by forced expiration, after maximum in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V1 - the volume of air that is blown out of the lungs in the first second of a forced ex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ffeneau index represents the proportion of air exhaled in the first second (forced expiration) in relation to the total forced vital capacity (FV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dal volume </a:t>
            </a:r>
            <a:br>
              <a:rPr sz="3600"/>
            </a:br>
            <a:endParaRPr b="0" lang="en-US" sz="3600" spc="-1" strike="noStrike">
              <a:solidFill>
                <a:srgbClr val="000000"/>
              </a:solidFill>
              <a:latin typeface="Calibri"/>
            </a:endParaRPr>
          </a:p>
        </p:txBody>
      </p:sp>
      <p:sp>
        <p:nvSpPr>
          <p:cNvPr id="190" name=""/>
          <p:cNvSpPr txBox="1"/>
          <p:nvPr/>
        </p:nvSpPr>
        <p:spPr>
          <a:xfrm>
            <a:off x="228240" y="2057400"/>
            <a:ext cx="891540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dal volume (Wt) or respiratory volume is the volume of air that is inhaled and exhaled during normal breathing - ventil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at rest is 500 ml with minimal energy consum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exercise, Vt increases by increasing end-inspiratory lung volume and decreasing functional residual capacity (FR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dal volume </a:t>
            </a:r>
            <a:br>
              <a:rPr sz="3600"/>
            </a:br>
            <a:endParaRPr b="0" lang="en-US" sz="3600" spc="-1" strike="noStrike">
              <a:solidFill>
                <a:srgbClr val="000000"/>
              </a:solidFill>
              <a:latin typeface="Calibri"/>
            </a:endParaRPr>
          </a:p>
        </p:txBody>
      </p:sp>
      <p:sp>
        <p:nvSpPr>
          <p:cNvPr id="192"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iratory and inspiratory reserve volumes are used to increase Vt when nee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y have no significance at rest, they play a key role during physical exer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maximum effort, the value of Vt can reach 3 l/min, and in athletes even the value of the vital capacity, but at a high frequency of breathing, the maximum Vt can not be higher than half of the vital capac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thing frequency </a:t>
            </a:r>
            <a:br>
              <a:rPr sz="4400"/>
            </a:br>
            <a:endParaRPr b="0" lang="en-US" sz="4400" spc="-1" strike="noStrike">
              <a:solidFill>
                <a:srgbClr val="000000"/>
              </a:solidFill>
              <a:latin typeface="Calibri"/>
            </a:endParaRPr>
          </a:p>
        </p:txBody>
      </p:sp>
      <p:sp>
        <p:nvSpPr>
          <p:cNvPr id="194" name=""/>
          <p:cNvSpPr txBox="1"/>
          <p:nvPr/>
        </p:nvSpPr>
        <p:spPr>
          <a:xfrm>
            <a:off x="457200" y="2133720"/>
            <a:ext cx="8229600" cy="3992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rate (RR) indicates the number of respirations per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of RR is 12–16 per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vary significantly depending on position, age, gender, altitude and physical activity, but also in different pathological conditions and some dis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maximum effort, it can increase up to 45 per min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nute respiratory volume</a:t>
            </a:r>
            <a:endParaRPr b="0" lang="en-US" sz="3600" spc="-1" strike="noStrike">
              <a:solidFill>
                <a:srgbClr val="000000"/>
              </a:solidFill>
              <a:latin typeface="Calibri"/>
            </a:endParaRPr>
          </a:p>
        </p:txBody>
      </p:sp>
      <p:sp>
        <p:nvSpPr>
          <p:cNvPr id="196" name=""/>
          <p:cNvSpPr txBox="1"/>
          <p:nvPr/>
        </p:nvSpPr>
        <p:spPr>
          <a:xfrm>
            <a:off x="457200" y="1066680"/>
            <a:ext cx="82296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lmonary ventilation or minute respiratory volume (Ve) is the total amount of new air that enters the airways every minute. It represents the product of respiratory volume and breathing frequency</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Ve = Vt x </a:t>
            </a:r>
            <a:r>
              <a:rPr b="0" lang="en-US" sz="2400" spc="-1" strike="noStrike">
                <a:solidFill>
                  <a:srgbClr val="000000"/>
                </a:solidFill>
                <a:latin typeface="Calibri"/>
              </a:rPr>
              <a:t>R</a:t>
            </a:r>
            <a:r>
              <a:rPr b="0" lang="ru-RU" sz="2400" spc="-1" strike="noStrike">
                <a:solidFill>
                  <a:srgbClr val="000000"/>
                </a:solidFill>
                <a:latin typeface="Calibri"/>
              </a:rPr>
              <a:t>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that the average respiratory volume is about 500 ml, and the average breathing frequency is 12–16 per minute, the average value of Ve is 6–8 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maximum physical effort, pulmonary ventilation increases 15–20 times and can reach 120 l/min, and in top athletes 160–200 l/m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a:t>
            </a:r>
            <a:endParaRPr b="0" lang="en-US" sz="3600" spc="-1" strike="noStrike">
              <a:solidFill>
                <a:srgbClr val="000000"/>
              </a:solidFill>
              <a:latin typeface="Calibri"/>
            </a:endParaRPr>
          </a:p>
        </p:txBody>
      </p:sp>
      <p:sp>
        <p:nvSpPr>
          <p:cNvPr id="137" name=""/>
          <p:cNvSpPr txBox="1"/>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rate (HR) represents the number of heartbeats (cardiac cycles, contractions) per minu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good indicator of the health of every organism, and it depends on age, level of training, emotional state, illness, effects of dru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252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600" spc="-1" strike="noStrike">
                <a:solidFill>
                  <a:srgbClr val="000000"/>
                </a:solidFill>
                <a:latin typeface="Calibri"/>
              </a:rPr>
              <a:t>Vital capacity</a:t>
            </a:r>
            <a:endParaRPr b="0" lang="en-US" sz="3600" spc="-1" strike="noStrike">
              <a:solidFill>
                <a:srgbClr val="000000"/>
              </a:solidFill>
              <a:latin typeface="Calibri"/>
            </a:endParaRPr>
          </a:p>
        </p:txBody>
      </p:sp>
      <p:sp>
        <p:nvSpPr>
          <p:cNvPr id="198" name=""/>
          <p:cNvSpPr txBox="1"/>
          <p:nvPr/>
        </p:nvSpPr>
        <p:spPr>
          <a:xfrm>
            <a:off x="457200" y="990360"/>
            <a:ext cx="822960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l capacity, i.e. slow inspiratory vital capacity represents the maximum amount of air that can be blown out of the lungs after a full slow breath, i.e. during calm breathing, i.e. it represents the difference between total lung capacity (TLC) and residual volume (R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ize depends on gender, age and body height, as well as on the ethnic characteristics of the respon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expressed as a percentage of the achieved table values predicted for a specific per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iratory response to an increase in the intensity of exercise includes an increase in pulmonary ventilation along with an increase in the amount of air during inhalation and the frequency of brea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ced expiratory volume (FEV1)                  in the first second</a:t>
            </a:r>
            <a:endParaRPr b="0" lang="en-US" sz="3600" spc="-1" strike="noStrike">
              <a:solidFill>
                <a:srgbClr val="000000"/>
              </a:solidFill>
              <a:latin typeface="Calibri"/>
            </a:endParaRPr>
          </a:p>
        </p:txBody>
      </p:sp>
      <p:sp>
        <p:nvSpPr>
          <p:cNvPr id="200"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expiratory volume (FEV1) in the first second is the volume of air that is blown out of the lungs in the first second of forced expiration, and after the maximum in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 measure of lung elasticity, respiratory muscle strength and airway patenc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V1 is the most commonly used parameter in practice to detect airway obstr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533520"/>
            <a:ext cx="86868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Arial"/>
              </a:rPr>
              <a:t>3. Functional capacity of the        musculoskeletal system</a:t>
            </a:r>
            <a:endParaRPr b="0" lang="en-US" sz="3200" spc="-1" strike="noStrike">
              <a:solidFill>
                <a:srgbClr val="000000"/>
              </a:solidFill>
              <a:latin typeface="Calibri"/>
            </a:endParaRPr>
          </a:p>
        </p:txBody>
      </p:sp>
      <p:sp>
        <p:nvSpPr>
          <p:cNvPr id="202" name=""/>
          <p:cNvSpPr txBox="1"/>
          <p:nvPr/>
        </p:nvSpPr>
        <p:spPr>
          <a:xfrm>
            <a:off x="228240" y="2285640"/>
            <a:ext cx="8534520" cy="4599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al abilities of the musculoskeletal system include muscle strength, muscle strength, muscle endurance and flexibil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ength and power, as physical abilities of a person, represent the ability to overcome external resistance, that is, to oppose the external load with muscle stra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54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cle strength and power</a:t>
            </a:r>
            <a:endParaRPr b="0" lang="en-US" sz="2800" spc="-1" strike="noStrike">
              <a:solidFill>
                <a:srgbClr val="000000"/>
              </a:solidFill>
              <a:latin typeface="Calibri"/>
            </a:endParaRPr>
          </a:p>
        </p:txBody>
      </p:sp>
      <p:sp>
        <p:nvSpPr>
          <p:cNvPr id="204" name="TextBox 10"/>
          <p:cNvSpPr/>
          <p:nvPr/>
        </p:nvSpPr>
        <p:spPr>
          <a:xfrm>
            <a:off x="304920" y="1595520"/>
            <a:ext cx="4176720" cy="461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
          <p:cNvSpPr txBox="1"/>
          <p:nvPr/>
        </p:nvSpPr>
        <p:spPr>
          <a:xfrm>
            <a:off x="457200" y="2438280"/>
            <a:ext cx="8229600" cy="368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sing the external load can be done by static (isometric) or dynamic (concentric and eccentric) muscle str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 contraction can be isotonic (isoinertial) or isokinet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c contraction</a:t>
            </a:r>
            <a:endParaRPr b="0" lang="en-US" sz="36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performing a static (isometric) contraction, muscle length does not change, but muscle tone incr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muscle force is greater than the external force, the muscle shortens and overcomes the external resistance, and this type of contraction is called concentric (myometrial) contra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an eccentric (plyometric) contraction, the muscle lengthens while opposing resis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82296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ynamic contraction</a:t>
            </a:r>
            <a:endParaRPr b="0" lang="en-US" sz="3600" spc="-1" strike="noStrike">
              <a:solidFill>
                <a:srgbClr val="000000"/>
              </a:solidFill>
              <a:latin typeface="Calibri"/>
            </a:endParaRPr>
          </a:p>
        </p:txBody>
      </p:sp>
      <p:sp>
        <p:nvSpPr>
          <p:cNvPr id="209" name=""/>
          <p:cNvSpPr txBox="1"/>
          <p:nvPr/>
        </p:nvSpPr>
        <p:spPr>
          <a:xfrm>
            <a:off x="457200" y="1523880"/>
            <a:ext cx="8229600" cy="4602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 muscle contraction can be isotonic (isoinertial) or isokine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soinertial contraction is a contraction in which the muscle overcomes a constant external load (for example, exercising with free weights or on machines in the gy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kinetic contraction is a contraction in which the speed of the movement is the same throughout the entire range of motion (even movement), and the load changes so that the muscle is maximally loaded throughout the entire range of motion, which can only be performed on specially designed de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scular endurance</a:t>
            </a:r>
            <a:endParaRPr b="0" lang="en-US" sz="36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endurance is the ability of a muscle or muscle group to perform repeated contractions over a period of time sufficient to cause muscle fatigue (dynamic muscular endurance) or to maintain a certain percentage of maximal voluntary contraction for a longer period (static muscular endur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in which the athlete repeats a given task more than 12 times are tests of muscular endur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sting of muscle strength and power</a:t>
            </a:r>
            <a:endParaRPr b="0" lang="en-US" sz="3600" spc="-1" strike="noStrike">
              <a:solidFill>
                <a:srgbClr val="000000"/>
              </a:solidFill>
              <a:latin typeface="Calibri"/>
            </a:endParaRPr>
          </a:p>
        </p:txBody>
      </p:sp>
      <p:sp>
        <p:nvSpPr>
          <p:cNvPr id="213" name=""/>
          <p:cNvSpPr txBox="1"/>
          <p:nvPr/>
        </p:nvSpPr>
        <p:spPr>
          <a:xfrm>
            <a:off x="457200" y="2209320"/>
            <a:ext cx="82296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ives</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identification of quality and weakness in muscle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progress in rehabilit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of the effectiveness of the training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iction of development potentials and assistance in the selection of talents in s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ibility</a:t>
            </a:r>
            <a:endParaRPr b="0" lang="en-US" sz="3600" spc="-1" strike="noStrike">
              <a:solidFill>
                <a:srgbClr val="000000"/>
              </a:solidFill>
              <a:latin typeface="Calibri"/>
            </a:endParaRPr>
          </a:p>
        </p:txBody>
      </p:sp>
      <p:sp>
        <p:nvSpPr>
          <p:cNvPr id="215"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is the ability to freely move a joint through its full range of motion</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s on</a:t>
            </a:r>
            <a:r>
              <a:rPr b="0" lang="sr-Latn-R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 </a:t>
            </a:r>
            <a:r>
              <a:rPr b="0" lang="en-US" sz="2400" spc="-1" strike="noStrike">
                <a:solidFill>
                  <a:srgbClr val="000000"/>
                </a:solidFill>
                <a:latin typeface="Calibri"/>
              </a:rPr>
              <a:t>joint shap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oint capsule extensibility,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igaments and muscles that surround a given join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is specific for a given joi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ssible to evaluate the flexibility of the whole body by performing a single flexibility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ility</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static (active or passive) and dynamic.</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ment of flexibility is usually done with manual or electric goniometers, inclinometers or centimeter tape</a:t>
            </a:r>
            <a:r>
              <a:rPr b="0" lang="ru-RU" sz="2400" spc="-1" strike="noStrike">
                <a:solidFill>
                  <a:srgbClr val="000000"/>
                </a:solidFill>
                <a:latin typeface="Calibri"/>
              </a:rPr>
              <a:t>.</a:t>
            </a:r>
            <a:endParaRPr b="0" lang="en-US" sz="2400" spc="-1" strike="noStrike">
              <a:solidFill>
                <a:srgbClr val="000000"/>
              </a:solidFill>
              <a:latin typeface="Calibri"/>
            </a:endParaRPr>
          </a:p>
        </p:txBody>
      </p:sp>
      <p:pic>
        <p:nvPicPr>
          <p:cNvPr id="218" name="Picture 3" descr=""/>
          <p:cNvPicPr/>
          <p:nvPr/>
        </p:nvPicPr>
        <p:blipFill>
          <a:blip r:embed="rId1"/>
          <a:stretch/>
        </p:blipFill>
        <p:spPr>
          <a:xfrm>
            <a:off x="5486400" y="4572000"/>
            <a:ext cx="2685960" cy="141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52280"/>
            <a:ext cx="8173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rt rate measuring</a:t>
            </a:r>
            <a:endParaRPr b="0" lang="en-US" sz="3600" spc="-1" strike="noStrike">
              <a:solidFill>
                <a:srgbClr val="000000"/>
              </a:solidFill>
              <a:latin typeface="Calibri"/>
            </a:endParaRPr>
          </a:p>
        </p:txBody>
      </p:sp>
      <p:pic>
        <p:nvPicPr>
          <p:cNvPr id="139" name="Content Placeholder 5" descr=""/>
          <p:cNvPicPr/>
          <p:nvPr/>
        </p:nvPicPr>
        <p:blipFill>
          <a:blip r:embed="rId1"/>
          <a:stretch/>
        </p:blipFill>
        <p:spPr>
          <a:xfrm>
            <a:off x="6443640" y="914400"/>
            <a:ext cx="2700360" cy="1417680"/>
          </a:xfrm>
          <a:prstGeom prst="rect">
            <a:avLst/>
          </a:prstGeom>
          <a:ln w="0">
            <a:noFill/>
          </a:ln>
        </p:spPr>
      </p:pic>
      <p:sp>
        <p:nvSpPr>
          <p:cNvPr id="140" name="TextBox 6"/>
          <p:cNvSpPr/>
          <p:nvPr/>
        </p:nvSpPr>
        <p:spPr>
          <a:xfrm>
            <a:off x="304920" y="2125800"/>
            <a:ext cx="840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Verdana"/>
              </a:rPr>
              <a:t>H</a:t>
            </a:r>
            <a:r>
              <a:rPr b="0" lang="en-US" sz="1800" spc="-1" strike="noStrike">
                <a:solidFill>
                  <a:srgbClr val="000000"/>
                </a:solidFill>
                <a:latin typeface="Verdana"/>
              </a:rPr>
              <a:t>eart rate</a:t>
            </a:r>
            <a:r>
              <a:rPr b="0" lang="sr-Latn-RS" sz="1800" spc="-1" strike="noStrike">
                <a:solidFill>
                  <a:srgbClr val="000000"/>
                </a:solidFill>
                <a:latin typeface="Verdana"/>
              </a:rPr>
              <a:t> canbe measured</a:t>
            </a: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y palpating the arterial pulse: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radialis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arotid arter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By auscultation - (over the precordiu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Using an electrocardiogram (EC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Telemetr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Holter-EC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Using a heart rate monitor - (popular in sports and recreation)</a:t>
            </a:r>
            <a:endParaRPr b="0" lang="en-US" sz="1800" spc="-1" strike="noStrike">
              <a:solidFill>
                <a:srgbClr val="000000"/>
              </a:solidFill>
              <a:latin typeface="Verdana"/>
            </a:endParaRPr>
          </a:p>
        </p:txBody>
      </p:sp>
      <p:pic>
        <p:nvPicPr>
          <p:cNvPr id="141" name="Picture 7" descr=""/>
          <p:cNvPicPr/>
          <p:nvPr/>
        </p:nvPicPr>
        <p:blipFill>
          <a:blip r:embed="rId2"/>
          <a:stretch/>
        </p:blipFill>
        <p:spPr>
          <a:xfrm>
            <a:off x="6386400" y="2332080"/>
            <a:ext cx="2619360" cy="204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rt rate value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en-US" sz="2800" spc="-1" strike="noStrike">
                <a:solidFill>
                  <a:srgbClr val="000000"/>
                </a:solidFill>
                <a:latin typeface="Calibri"/>
              </a:rPr>
              <a:t>At rest 60-</a:t>
            </a:r>
            <a:r>
              <a:rPr b="0" lang="sr-Latn-RS" sz="2800" spc="-1" strike="noStrike">
                <a:solidFill>
                  <a:srgbClr val="000000"/>
                </a:solidFill>
                <a:latin typeface="Calibri"/>
              </a:rPr>
              <a:t>10</a:t>
            </a:r>
            <a:r>
              <a:rPr b="0" lang="en-US" sz="2800" spc="-1" strike="noStrike">
                <a:solidFill>
                  <a:srgbClr val="000000"/>
                </a:solidFill>
                <a:latin typeface="Calibri"/>
              </a:rPr>
              <a:t>0 / minut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t; 60 – bradycard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t;</a:t>
            </a:r>
            <a:r>
              <a:rPr b="0" lang="sr-Latn-RS" sz="2800" spc="-1" strike="noStrike">
                <a:solidFill>
                  <a:srgbClr val="000000"/>
                </a:solidFill>
                <a:latin typeface="Calibri"/>
              </a:rPr>
              <a:t> </a:t>
            </a:r>
            <a:r>
              <a:rPr b="0" lang="en-US" sz="2800" spc="-1" strike="noStrike">
                <a:solidFill>
                  <a:srgbClr val="000000"/>
                </a:solidFill>
                <a:latin typeface="Calibri"/>
              </a:rPr>
              <a:t>100 – tachycar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ing heart rate is the number of heart beats per minute, in the morning, immediately after waking up from a restful slee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represents one of the significant parameters of fit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heart rate is not the main parameter of fitness, but only its indirect indicator, there is a linear dependence between the movement of the heart rate during training and the consumption of oxygen, which allows us to evaluate the metabolic state of the organism by monitoring the pul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7" name=""/>
          <p:cNvSpPr txBox="1"/>
          <p:nvPr/>
        </p:nvSpPr>
        <p:spPr>
          <a:xfrm>
            <a:off x="228600" y="1600200"/>
            <a:ext cx="8763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a:t>
            </a:r>
            <a:r>
              <a:rPr b="0" lang="en-US" sz="2400" spc="-1" strike="noStrike">
                <a:solidFill>
                  <a:srgbClr val="000000"/>
                </a:solidFill>
                <a:latin typeface="Calibri"/>
              </a:rPr>
              <a:t>n trained people, it is always lower, and in top athletes it can go up to 30 beats/m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ts valu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en-US" sz="2400" spc="-1" strike="noStrike">
                <a:solidFill>
                  <a:srgbClr val="000000"/>
                </a:solidFill>
                <a:latin typeface="Calibri"/>
              </a:rPr>
              <a:t>decreases with ag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actically can</a:t>
            </a:r>
            <a:r>
              <a:rPr b="0" lang="sr-Latn-RS" sz="2400" spc="-1" strike="noStrike">
                <a:solidFill>
                  <a:srgbClr val="000000"/>
                </a:solidFill>
                <a:latin typeface="Calibri"/>
              </a:rPr>
              <a:t> </a:t>
            </a:r>
            <a:r>
              <a:rPr b="0" lang="en-US" sz="2400" spc="-1" strike="noStrike">
                <a:solidFill>
                  <a:srgbClr val="000000"/>
                </a:solidFill>
                <a:latin typeface="Calibri"/>
              </a:rPr>
              <a:t>not be used by people taking heart medications,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emotional people, as well as those who drink coffee and smoke, the value is always hig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9"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crease in resting heart rate indicates an improvement in fitnes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crease in resting heart rate indicat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trainin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le dehydra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otional stres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leeping habit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 nutri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a combination of two or more fa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during training</a:t>
            </a:r>
            <a:endParaRPr b="0" lang="en-US" sz="36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rcise leads to an increase in oxygen consumption in the muscles, which is the way to increase aerobic capac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the influence of regular training, the heart rate decreases by 15 beats after three to six wee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cycle a certain distance at 155 beats per minute, after a few weeks you will have a much lower heart rate, about 140 beats per minute, and then you will have to ride harder and harder to lower your heart rate fur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period of rapid improvement in the beginning, and then it takes more and more effort to progr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8:58:44Z</dcterms:created>
  <dc:creator>brizita</dc:creator>
  <dc:description/>
  <dc:language>en-US</dc:language>
  <cp:lastModifiedBy>Windows User</cp:lastModifiedBy>
  <dcterms:modified xsi:type="dcterms:W3CDTF">2024-02-26T11:53:56Z</dcterms:modified>
  <cp:revision>119</cp:revision>
  <dc:subject/>
  <dc:title>SPORTSKA ISHRANA</dc:title>
</cp:coreProperties>
</file>